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3116-B4E9-4F0C-A2DF-0E9F31B0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1% of gynecologists get the right answer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popularized by Mark Tw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's wrong with these pictu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areful reading of the whole article (buried several pages into the paper) reveals a different stor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The ranking graph covers an 11 year period, the tuition graph 35 years, yet they are shown simultaneously (the same apparent width) on the same horizontal "scale"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The vertical scale for tuition and ranking could not possibly have common units, but the ranking graph is placed under the tuition graph creating the impression that cost exceeds qual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he differing time units are cleverly disguised by printing them rotated 90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And here is the masterstroke: the sharp "drop" in the ranking graph over the past few years actually represents the fact that Cornell's rank has IMPROVED from 15th TO 6th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B2B-C947-47D8-938E-77DA2915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7F1-D5CA-4C52-A6AD-B78EF9AB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313-3A8D-47A6-BBD9-A7779D3A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0A6-5494-451A-9461-AF23694A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7EC-A720-4026-A317-28C94C59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6254-0557-46A4-B2A0-7DA481D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933A-60CE-46FB-83D6-46BFCED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9AC5-1EC1-4709-8AED-98120FD2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8EC-59F9-4122-9E81-E6F4F22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4E02-3E0C-4CEB-907D-19304E18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75F8-965A-4B51-B901-C7BD565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412-95A3-4FAB-A9F0-A961EB62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B61B-DFB0-427E-85FE-7EF57B1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A964-1D5D-45ED-A92D-38B7324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C224-E354-4C69-BDF5-E4CB465D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373-C516-49E6-B45A-D305BFA0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C501-B0D3-4C73-BC3D-4D99E428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536C-8146-45BB-AFF7-12CAAA19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0D22-7EAA-469D-96BD-C73FBFE3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6654-68EC-44DC-8CDF-A46EEF1D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360D-BC22-49C7-A19B-C5B1392E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8AB3-BB67-479B-A014-CB848B5A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3BE-8540-4766-B56E-7BF86D94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AA80-188B-45A3-93F2-49FC47D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9C2B-1F53-4E49-A6CA-33B3BB9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FB24-EA9A-48B7-BF35-DE91361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FB25-783C-4717-BDB8-240516C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FAB2-96CE-4380-9CC9-FC428E54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7D58-82F9-4385-8FCB-DFE08EAD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A246-D77A-4B4E-9281-0D3CA2B6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F73-906D-435C-A36D-9426A52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0C9-D0DA-4F16-BDFE-6008748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C1D-5798-4E06-AE38-9693700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9A9-A9B9-47A4-A631-04B1AB6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808-1DFD-4E02-A6F5-2F0BE221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539-0C16-4882-B90F-DC0FAD2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B2B-4191-496C-B0DF-88235FA5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968B-C308-41FF-AA43-C4E1A0BFA2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C40-5C32-4B41-8760-1B6F2624B3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ienceblips.dailyradar.com/video/daily_show_explains_the_lhc_video/" TargetMode="External"/><Relationship Id="rId2" Type="http://schemas.openxmlformats.org/officeDocument/2006/relationships/hyperlink" Target="http://scienceblips.dailyradar.com/video/daily_show_explains_the_lhc_video/" TargetMode="External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ActivityDetail.aspx?ID=16" TargetMode="External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quotationspage.com/quote/30392.html" TargetMode="External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99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Powers of Ten –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Gahh!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982880" y="4038480"/>
            <a:ext cx="52099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tatistics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relation vs. Causation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8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f: Fluoridated water causes cancer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tions that add fluoride to their water have a higher cancer rate than those that don't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8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f: Marriage is bad for your health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Alabama, counties with higher divorce rates generally have lower death rates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25760" y="762120"/>
            <a:ext cx="4575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obability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48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netic probabil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ealth probabil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ammography Statistic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probability that a woman has breast cancer is 1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has breast cancer, the probability that she tests positive is 90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does not have breast cancer, the probability that she nevertheless tests positive is 9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876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Out of 10 women with a positive mammogram, ~9 have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Out of 10 women with a positive mammogram, ~1 has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The probability that she has breast cancer is about 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240" y="3809880"/>
            <a:ext cx="753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oman has a positive mammogram. What is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of actually having breast canc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s more impressive than cutting the ri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2.8% to 1.5%, doe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3670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62080"/>
            <a:ext cx="919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There are three kinds of li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es, damned lies, and statistics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162560" y="4419720"/>
            <a:ext cx="1143000" cy="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d then there’s the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adron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Collider…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Graphing Difficulties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 Interpretation Problems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Graph vs.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ope vs. heigh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nnect from data tabl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 type of graph should I use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 Chart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parts, or percents, of a who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350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dequate (and inaccurate)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gri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ppropriate sc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3902" t="5551" r="3902" b="5551"/>
          <a:stretch/>
        </p:blipFill>
        <p:spPr>
          <a:xfrm>
            <a:off x="3581280" y="990720"/>
            <a:ext cx="44262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 well-gridded for interpre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uld this be a straight line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6386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ing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pre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ph vs. pict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oice for x and y ax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xis labels/uni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al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ales not linear/unifor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e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ypes of Graph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 Chart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parts, or percents, of a whole 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stogram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ow frequency distributions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rocedure Rubric</a:t>
            </a:r>
            <a:endParaRPr b="1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this an experiment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id hypothesis - falsifiable!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dentification of variabl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 (very important)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881600" cy="415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561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181480"/>
            <a:ext cx="7162560" cy="15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you personally do this experiment successfully using this proced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055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 Teacher Estimates of Student Interest and Comprehension of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292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st Graph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327560" cy="5410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73680" y="152280"/>
            <a:ext cx="4083120" cy="670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st Pie Chart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562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he Case of the Missing Workers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asur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aph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Math In The Science Classroom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we need to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ul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measur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analyze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0120" y="838080"/>
            <a:ext cx="1342800" cy="570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2449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 have not failed. I've just found 10,000 ways that won't work.</a:t>
            </a:r>
            <a:br>
              <a:rPr sz="4800"/>
            </a:br>
            <a:br>
              <a:rPr sz="4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 -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Thomas A. Ediso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uidelines for Preventing Math Error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all informa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paper trail)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visual keys, such as arrow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te answer clearly, WITH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ck that your answer makes sens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You have a bowl with 2 oranges and 3 apples. If you reach into the bowl without looking, what is the probability that you will grab an orange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4190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 is it 2/3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Errors vs. Misconceptions </a:t>
            </a:r>
            <a:br>
              <a:rPr sz="7200"/>
            </a:b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amples of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/3 vs. 1/8 - which is bigger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2126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lief - Larger denominator is bigger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36 vs. 4.2 - which is bigger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2126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lief - Numbers with more digits are bigger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 vs. mg - which is bigger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488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lief - More letters mean bigger units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amples of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3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umbers with more digits are bigg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5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36 vs. 4.2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letters mean bigger unit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5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 vs. m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3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ultiplication by 10 adds a zer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976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36 x 10 = 2.360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re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19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ication creates bigger number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spcAft>
                <a:spcPts val="19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ication by 10 adds a zero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spcAft>
                <a:spcPts val="1650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36 x 10 = 2.36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spcAft>
                <a:spcPts val="19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rtion of blue w/ 2 blue and 3 red item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spcAft>
                <a:spcPts val="1650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r 2/5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13:08Z</dcterms:created>
  <dc:creator>Cynthia J. Moore</dc:creator>
  <dc:description/>
  <dc:language>en-US</dc:language>
  <cp:lastModifiedBy>Cynthia Moore</cp:lastModifiedBy>
  <dcterms:modified xsi:type="dcterms:W3CDTF">2011-02-27T21:33:32Z</dcterms:modified>
  <cp:revision>49</cp:revision>
  <dc:subject/>
  <dc:title>Slide 1</dc:title>
</cp:coreProperties>
</file>